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2AF8-D529-4C9E-82A5-FF2F0B7D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7B9F-9CCC-42D5-A200-B9888B15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874D-0E2F-489E-B28A-7AC42CD2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41CA-BC6C-4A69-9E96-6558E781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45D4-8E02-43C6-9D2D-DDE6C31A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0C68-CACE-4106-B63E-6A4EB237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2E9F-EA62-4549-AF76-8B5717B5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1670-5148-41C9-9ECF-816FB323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A1FE-917F-429A-BEC4-F0E255D7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783F-16AC-41C2-808F-FB0CD4B1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6D9C-83DA-498E-AD55-C740E8CC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3303-DA25-47B4-8063-59FF00E1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CAB0-69CD-491E-B5EE-EC3A4E55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99CE-505B-4C51-A64D-EB60ECC8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9334-C987-4028-A5A3-E1D59372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34EB-DB98-4E6B-BE18-C135B525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C2A7-B651-4B97-9299-6AF7525E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30EF-0173-45CD-A199-03919E22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6BB5-C415-45C2-80D9-DFDA5547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FE3F-DBB4-43F5-A23B-9B7E05D1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DA6-3A63-4A98-A17F-5C0A8906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3061-5C80-4471-AE59-233CB59F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54F5-DEBB-4BCC-BAB5-C335F35D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1473-C44C-4ED3-985F-0D4741AA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Right Triangle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Right Triangle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Group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Freeform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Freeform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 rtl="1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Straight Connector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2BC47669-7F08-45DE-A46D-A83F0957E50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Freeform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Right Triangle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 algn="r" rtl="1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 algn="r" rtl="1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C8DFEE92-ACE0-43F5-99D5-915F3F1648E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9640" y="2277000"/>
            <a:ext cx="8043480" cy="1779840"/>
          </a:xfrm>
          <a:prstGeom prst="rect">
            <a:avLst/>
          </a:prstGeom>
          <a:gradFill rotWithShape="0">
            <a:gsLst>
              <a:gs pos="0">
                <a:srgbClr val="ffab9b"/>
              </a:gs>
              <a:gs pos="100000">
                <a:srgbClr val="ffd7d0"/>
              </a:gs>
            </a:gsLst>
            <a:lin ang="16200000"/>
          </a:gradFill>
          <a:ln w="9360">
            <a:solidFill>
              <a:srgbClr val="eb641b"/>
            </a:solidFill>
            <a:round/>
          </a:ln>
          <a:effectLst>
            <a:outerShdw dist="38160" dir="5400000" blurRad="507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b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IQ" sz="5400" spc="-1" strike="noStrike">
                <a:solidFill>
                  <a:srgbClr val="464646"/>
                </a:solidFill>
                <a:latin typeface="Lucida Sans Unicode"/>
              </a:rPr>
              <a:t>التوازن الانفعالي</a:t>
            </a:r>
            <a:br>
              <a:rPr sz="2700"/>
            </a:b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99640" y="4437000"/>
            <a:ext cx="77720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tIns="45000" bIns="45000" anchor="t">
            <a:normAutofit fontScale="19000"/>
          </a:bodyPr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ar-IQ" sz="17600" spc="-1" strike="noStrike">
                <a:solidFill>
                  <a:srgbClr val="464646"/>
                </a:solidFill>
                <a:latin typeface="Lucida Sans Unicode"/>
              </a:rPr>
              <a:t>د .فاضل شاكر حسن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79640" y="1268640"/>
            <a:ext cx="8733240" cy="48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ar-IQ" sz="2700" spc="-1" strike="noStrike">
                <a:solidFill>
                  <a:srgbClr val="000000"/>
                </a:solidFill>
                <a:latin typeface="Lucida Sans Unicode"/>
              </a:rPr>
              <a:t>كيف  ( تتشكل ) الشخصية ؟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اسرة ( الام + الاب + الاخوة والاخوات 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اقران ( الاصدقاء 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وسائل الاتصال ( التلفاز + اجهزة الاتصال ....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مدرسة ( المؤسسة الاولى : المعلم ، الدرس ، الزملاء ...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مؤسسة الدين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8000"/>
          </a:bodyPr>
          <a:p>
            <a:pPr marL="726120"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الشخصية العراقية ؟ ( .........</a:t>
            </a:r>
            <a:br>
              <a:rPr sz="4100"/>
            </a:b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د.علي الوردي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الدراسات الحديثة 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229240" cy="3992760"/>
          </a:xfrm>
          <a:prstGeom prst="rect">
            <a:avLst/>
          </a:prstGeom>
          <a:solidFill>
            <a:srgbClr val="b5e9f4"/>
          </a:solidFill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339840" indent="-237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الطالب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84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840" indent="-237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زملاء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840" indent="-237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ادارة                               عوامل تؤثر في تكوين الانفعالات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840" indent="-237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مناهج الدراس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840" indent="-237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ابني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4000"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3600" spc="-1" strike="noStrike">
                <a:solidFill>
                  <a:srgbClr val="464646"/>
                </a:solidFill>
                <a:latin typeface="Lucida Sans Unicode"/>
              </a:rPr>
              <a:t>التدريسي  داخل المؤسسة التعليمية </a:t>
            </a: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: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Left Brace 3"/>
          <p:cNvSpPr/>
          <p:nvPr/>
        </p:nvSpPr>
        <p:spPr>
          <a:xfrm>
            <a:off x="4644000" y="1772640"/>
            <a:ext cx="1800000" cy="345600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2da2b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811240"/>
          </a:xfrm>
          <a:prstGeom prst="rect">
            <a:avLst/>
          </a:prstGeom>
          <a:gradFill rotWithShape="0">
            <a:gsLst>
              <a:gs pos="0">
                <a:srgbClr val="c3a4aa"/>
              </a:gs>
              <a:gs pos="100000">
                <a:srgbClr val="e4d5d7"/>
              </a:gs>
            </a:gsLst>
            <a:lin ang="16200000"/>
          </a:gradFill>
          <a:ln w="9360">
            <a:solidFill>
              <a:srgbClr val="7d3c4a"/>
            </a:solidFill>
            <a:round/>
          </a:ln>
          <a:effectLst>
            <a:outerShdw dist="38160" dir="5400000" blurRad="507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chemeClr val="dk1"/>
                </a:solidFill>
                <a:latin typeface="Lucida Sans Unicode"/>
              </a:rPr>
              <a:t>البيت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chemeClr val="dk1"/>
                </a:solidFill>
                <a:latin typeface="Lucida Sans Unicode"/>
              </a:rPr>
              <a:t>الاصدقاء                        عوامل تؤثر في الانفعالات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chemeClr val="dk1"/>
                </a:solidFill>
                <a:latin typeface="Lucida Sans Unicode"/>
              </a:rPr>
              <a:t>الاعلا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chemeClr val="dk1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 خارج المؤسسة التعليمية   :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Left Brace 3"/>
          <p:cNvSpPr/>
          <p:nvPr/>
        </p:nvSpPr>
        <p:spPr>
          <a:xfrm>
            <a:off x="5724000" y="1628640"/>
            <a:ext cx="1295640" cy="1151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2da2b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323600"/>
          </a:xfrm>
          <a:prstGeom prst="rect">
            <a:avLst/>
          </a:prstGeom>
          <a:solidFill>
            <a:srgbClr val="def5fa"/>
          </a:solidFill>
          <a:ln w="0">
            <a:solidFill>
              <a:srgbClr val="000000"/>
            </a:solidFill>
          </a:ln>
        </p:spPr>
        <p:txBody>
          <a:bodyPr lIns="90000" rIns="90000" tIns="45000" bIns="45000" anchor="t">
            <a:noAutofit/>
          </a:bodyPr>
          <a:p>
            <a:pPr marL="514440" indent="-5144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1" lang="ar-IQ" sz="2700" spc="-1" strike="noStrike">
                <a:solidFill>
                  <a:srgbClr val="000000"/>
                </a:solidFill>
                <a:latin typeface="Lucida Sans Unicode"/>
              </a:rPr>
              <a:t>مشكلات العائل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مشكلات العمل                دراسة استطلاع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1" lang="ar-IQ" sz="2700" spc="-1" strike="noStrike">
                <a:solidFill>
                  <a:srgbClr val="000000"/>
                </a:solidFill>
                <a:latin typeface="Lucida Sans Unicode"/>
              </a:rPr>
              <a:t>وضع البلد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هل يمكن ان نؤيد هذه النتائج حاليا ؟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اسباب الانفعالات : 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134" name="Straight Connector 4"/>
          <p:cNvCxnSpPr/>
          <p:nvPr/>
        </p:nvCxnSpPr>
        <p:spPr>
          <a:xfrm flipH="1">
            <a:off x="5292000" y="1700640"/>
            <a:ext cx="792360" cy="2016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</p:spTree>
  </p:cSld>
  <p:transition spd="slow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ضبط الذات عملية تنظيم الفرد لسلوكه (( حسب  قبول المجتمع )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-5144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قيم العادات والاعراف التقاليد ( محددات السلوك 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فهل الانسان حرا في سلوكه ؟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نظرية كولي ( الذات المنعكسه ) تشير ..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ضبط الذات وعلاقتها مع الاتزان الانفعالي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137" name="Straight Connector 4"/>
          <p:cNvCxnSpPr/>
          <p:nvPr/>
        </p:nvCxnSpPr>
        <p:spPr>
          <a:xfrm flipH="1">
            <a:off x="1403640" y="2060640"/>
            <a:ext cx="259236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</p:spTree>
  </p:cSld>
  <p:transition spd="slow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همال المثيرات التافهه ( التجاهل الذكي 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ضبط الذات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ثبات  ( حالة المزاج 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ذكر الل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غير الوضع العام للجسم ( حركة الجسم 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يترتب عليه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كيف نتعلم الاتزان الانفعالي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Left Arrow 4"/>
          <p:cNvSpPr/>
          <p:nvPr/>
        </p:nvSpPr>
        <p:spPr>
          <a:xfrm>
            <a:off x="2627640" y="4312440"/>
            <a:ext cx="396000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24000"/>
          </a:bodyPr>
          <a:p>
            <a:pPr indent="0" algn="ctr" rtl="1">
              <a:lnSpc>
                <a:spcPct val="100000"/>
              </a:lnSpc>
              <a:buNone/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لغة الجسد وعلاقتها بالتوازن الانفعالي 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300240" indent="-209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 </a:t>
            </a:r>
            <a:r>
              <a:rPr b="1" lang="ar-IQ" sz="2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معرفة</a:t>
            </a: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ردود فعل الآخرين ، و</a:t>
            </a:r>
            <a:r>
              <a:rPr b="1" lang="ar-IQ" sz="2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</a:t>
            </a:r>
            <a:r>
              <a:rPr b="1" lang="ar-SA" sz="2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قبل آراءهم  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0240" indent="-209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تجنب الأنانية ، وحب السيطرة على الآخري</a:t>
            </a:r>
            <a:r>
              <a:rPr b="1" lang="ar-IQ" sz="2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ن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0240" indent="-209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</a:t>
            </a:r>
            <a:r>
              <a:rPr b="1" lang="ar-IQ" sz="2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تفكير في</a:t>
            </a: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 نتائج  الانفعال 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0240" indent="-209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</a:t>
            </a:r>
            <a:r>
              <a:rPr b="1" lang="ar-IQ" sz="2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</a:t>
            </a:r>
            <a:r>
              <a:rPr b="1" lang="ar-SA" sz="2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حقق من</a:t>
            </a: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ا</a:t>
            </a:r>
            <a:r>
              <a:rPr b="1" lang="ar-SA" sz="2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نفعالات</a:t>
            </a: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الفرد</a:t>
            </a: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بدلا من الحكم المباشر على أفعال الآخرين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0240" indent="-209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</a:t>
            </a:r>
            <a:r>
              <a:rPr b="1" lang="ar-IQ" sz="2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انتباه</a:t>
            </a: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للتواصل الجسدى غير المنطوق </a:t>
            </a: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0240" indent="-209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التعامل </a:t>
            </a: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(المرن) </a:t>
            </a: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مع مختلف الحالات المزاجية </a:t>
            </a: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(التصلب والمرونة)</a:t>
            </a: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0240" indent="-209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ar-SA" sz="2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استرخاء والهدوء النفسى والبدن</a:t>
            </a:r>
            <a:r>
              <a:rPr b="1" lang="ar-IQ" sz="2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 </a:t>
            </a: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024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024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عدم اتخاذ قرارات في حالة الانفعال 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024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1000"/>
          </a:bodyPr>
          <a:p>
            <a:pPr indent="0" algn="r" rtl="1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464646"/>
                </a:solidFill>
                <a:latin typeface="Lucida Sans Unicode"/>
              </a:rPr>
              <a:t>   عوامل</a:t>
            </a:r>
            <a:r>
              <a:rPr b="1" lang="en-US" sz="3100" spc="-1" strike="noStrike">
                <a:solidFill>
                  <a:srgbClr val="464646"/>
                </a:solidFill>
                <a:latin typeface="Lucida Sans Unicode"/>
              </a:rPr>
              <a:t> الاتزان الانفعال</a:t>
            </a:r>
            <a:r>
              <a:rPr b="1" lang="ar-IQ" sz="3100" spc="-1" strike="noStrike">
                <a:solidFill>
                  <a:srgbClr val="464646"/>
                </a:solidFill>
                <a:latin typeface="Lucida Sans Unicode"/>
              </a:rPr>
              <a:t>ي</a:t>
            </a:r>
            <a:r>
              <a:rPr b="1" lang="en-US" sz="31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31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3100" spc="-1" strike="noStrike">
                <a:solidFill>
                  <a:srgbClr val="464646"/>
                </a:solidFill>
                <a:latin typeface="Lucida Sans Unicode"/>
              </a:rPr>
              <a:t>: </a:t>
            </a:r>
            <a:br>
              <a:rPr sz="4100"/>
            </a:b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145" name="Straight Connector 4"/>
          <p:cNvCxnSpPr/>
          <p:nvPr/>
        </p:nvCxnSpPr>
        <p:spPr>
          <a:xfrm flipH="1" flipV="1">
            <a:off x="4716000" y="5085000"/>
            <a:ext cx="3456720" cy="72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523240"/>
          </a:xfrm>
          <a:prstGeom prst="rect">
            <a:avLst/>
          </a:prstGeom>
          <a:gradFill rotWithShape="0">
            <a:gsLst>
              <a:gs pos="0">
                <a:srgbClr val="95d3ee"/>
              </a:gs>
              <a:gs pos="100000">
                <a:srgbClr val="c9ecfb"/>
              </a:gs>
            </a:gsLst>
            <a:lin ang="16200000"/>
          </a:gradFill>
          <a:ln w="9360">
            <a:solidFill>
              <a:srgbClr val="2da2bf"/>
            </a:solidFill>
            <a:round/>
          </a:ln>
          <a:effectLst>
            <a:outerShdw dist="12218" dir="8100000" blurRad="76320" rotWithShape="0">
              <a:srgbClr val="000000">
                <a:alpha val="2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365760" indent="-255960" algn="just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3200" spc="-1" strike="noStrike">
                <a:solidFill>
                  <a:schemeClr val="dk1"/>
                </a:solidFill>
                <a:latin typeface="Lucida Sans Unicode"/>
              </a:rPr>
              <a:t>قدرة الانسان على التحكم في ردود افعاله عند الاحوال والمواقف الصعبة في أثناء التعامل مع الضغوط والازمات بشكل هادىء ومتزن،</a:t>
            </a:r>
            <a:r>
              <a:rPr b="0" lang="en-US" sz="3200" spc="-1" strike="noStrike">
                <a:solidFill>
                  <a:schemeClr val="dk1"/>
                </a:solidFill>
                <a:latin typeface="Lucida Sans Unicode"/>
              </a:rPr>
              <a:t> </a:t>
            </a:r>
            <a:r>
              <a:rPr b="0" lang="ar-IQ" sz="3200" spc="-1" strike="noStrike">
                <a:solidFill>
                  <a:schemeClr val="dk1"/>
                </a:solidFill>
                <a:latin typeface="Lucida Sans Unicode"/>
              </a:rPr>
              <a:t>من دون توتر</a:t>
            </a:r>
            <a:r>
              <a:rPr b="0" lang="ar-SA" sz="3200" spc="-1" strike="noStrike">
                <a:solidFill>
                  <a:schemeClr val="dk1"/>
                </a:solidFill>
                <a:latin typeface="Lucida Sans Unicode"/>
              </a:rPr>
              <a:t>،</a:t>
            </a:r>
            <a:r>
              <a:rPr b="0" lang="en-US" sz="3200" spc="-1" strike="noStrike">
                <a:solidFill>
                  <a:schemeClr val="dk1"/>
                </a:solidFill>
                <a:latin typeface="Lucida Sans Unicode"/>
              </a:rPr>
              <a:t> يت</a:t>
            </a:r>
            <a:r>
              <a:rPr b="0" lang="ar-SA" sz="3200" spc="-1" strike="noStrike">
                <a:solidFill>
                  <a:schemeClr val="dk1"/>
                </a:solidFill>
                <a:latin typeface="Lucida Sans Unicode"/>
              </a:rPr>
              <a:t>سم بالهدوء والثبات، فى مختلف المواقف</a:t>
            </a:r>
            <a:r>
              <a:rPr b="0" lang="en-US" sz="3200" spc="-1" strike="noStrike">
                <a:solidFill>
                  <a:schemeClr val="dk1"/>
                </a:solidFill>
                <a:latin typeface="Lucida Sans Unicode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 الاتزان الانفعالي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595240"/>
          </a:xfrm>
          <a:prstGeom prst="rect">
            <a:avLst/>
          </a:prstGeom>
          <a:gradFill rotWithShape="0">
            <a:gsLst>
              <a:gs pos="0">
                <a:srgbClr val="95d3ee"/>
              </a:gs>
              <a:gs pos="100000">
                <a:srgbClr val="c9ecfb"/>
              </a:gs>
            </a:gsLst>
            <a:lin ang="16200000"/>
          </a:gradFill>
          <a:ln w="9360">
            <a:solidFill>
              <a:srgbClr val="2da2bf"/>
            </a:solidFill>
            <a:round/>
          </a:ln>
        </p:spPr>
        <p:txBody>
          <a:bodyPr lIns="90000" rIns="90000" tIns="45000" bIns="45000" anchor="t">
            <a:normAutofit fontScale="95000"/>
          </a:bodyPr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7400"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ar-IQ" sz="2700" spc="-1" strike="noStrike">
                <a:solidFill>
                  <a:schemeClr val="dk1"/>
                </a:solidFill>
                <a:latin typeface="Lucida Sans Unicode"/>
              </a:rPr>
              <a:t>د.فاضل شاكر حسن الساعدي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7400"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ar-IQ" sz="2700" spc="-1" strike="noStrike">
                <a:solidFill>
                  <a:schemeClr val="dk1"/>
                </a:solidFill>
                <a:latin typeface="Lucida Sans Unicode"/>
              </a:rPr>
              <a:t>مركز البحوث النفسي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7400"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ar-IQ" sz="2700" spc="-1" strike="noStrike">
                <a:solidFill>
                  <a:schemeClr val="dk1"/>
                </a:solidFill>
                <a:latin typeface="Lucida Sans Unicode"/>
              </a:rPr>
              <a:t>وزارة التعليم العالي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7400"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chemeClr val="dk1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7400"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dk1"/>
                </a:solidFill>
                <a:latin typeface="Simplified Arabic"/>
              </a:rPr>
              <a:t>Fadhil Shakir Alsaady face book</a:t>
            </a:r>
            <a:r>
              <a:rPr b="0" lang="en-US" sz="2000" spc="-1" strike="noStrike">
                <a:solidFill>
                  <a:schemeClr val="dk1"/>
                </a:solidFill>
                <a:latin typeface="Simplified Arabic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شكرا لكم 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240" cy="5976360"/>
          </a:xfrm>
          <a:prstGeom prst="rect">
            <a:avLst/>
          </a:prstGeom>
          <a:gradFill rotWithShape="0">
            <a:gsLst>
              <a:gs pos="0">
                <a:srgbClr val="ff9193"/>
              </a:gs>
              <a:gs pos="100000">
                <a:srgbClr val="ffcbcd"/>
              </a:gs>
            </a:gsLst>
            <a:lin ang="16200000"/>
          </a:gradFill>
          <a:ln w="9360">
            <a:solidFill>
              <a:srgbClr val="da1f28"/>
            </a:solidFill>
            <a:round/>
          </a:ln>
          <a:effectLst>
            <a:outerShdw dist="38160" dir="5400000" blurRad="507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 fontScale="98000"/>
          </a:bodyPr>
          <a:p>
            <a:pPr marL="358200" indent="-2505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ar-IQ" sz="2700" spc="-1" strike="noStrike">
                <a:solidFill>
                  <a:srgbClr val="0070c0"/>
                </a:solidFill>
                <a:latin typeface="Simplified Arabic"/>
                <a:cs typeface="Simplified Arabic"/>
              </a:rPr>
              <a:t>التوازن ..... المعنى العام .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2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ar-IQ" sz="2700" spc="-1" strike="noStrike">
                <a:solidFill>
                  <a:schemeClr val="dk1"/>
                </a:solidFill>
                <a:latin typeface="Simplified Arabic"/>
                <a:cs typeface="Simplified Arabic"/>
              </a:rPr>
              <a:t>المواقف __________ الإنسان ________ مكونات الشخص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2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ar-IQ" sz="3400" spc="-1" strike="noStrike">
                <a:solidFill>
                  <a:schemeClr val="dk1"/>
                </a:solidFill>
                <a:latin typeface="Simplified Arabic"/>
                <a:cs typeface="Simplified Arabic"/>
              </a:rPr>
              <a:t>المعتقد ......... رسوخ وثبات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582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ar-IQ" sz="3400" spc="-1" strike="noStrike">
                <a:solidFill>
                  <a:schemeClr val="dk1"/>
                </a:solidFill>
                <a:latin typeface="Simplified Arabic"/>
                <a:cs typeface="Simplified Arabic"/>
              </a:rPr>
              <a:t>القيم ........... درجة عالية من التنظيم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582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ar-IQ" sz="3400" spc="-1" strike="noStrike">
                <a:solidFill>
                  <a:schemeClr val="dk1"/>
                </a:solidFill>
                <a:latin typeface="Simplified Arabic"/>
                <a:cs typeface="Simplified Arabic"/>
              </a:rPr>
              <a:t>الأتجاه ......... فيه شحنة عاطفية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582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ar-IQ" sz="3400" spc="-1" strike="noStrike">
                <a:solidFill>
                  <a:schemeClr val="dk1"/>
                </a:solidFill>
                <a:latin typeface="Simplified Arabic"/>
                <a:cs typeface="Simplified Arabic"/>
              </a:rPr>
              <a:t>الرأي .......... قبول أو رفض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582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ar-IQ" sz="3400" spc="-1" strike="noStrike">
                <a:solidFill>
                  <a:schemeClr val="dk1"/>
                </a:solidFill>
                <a:latin typeface="Simplified Arabic"/>
                <a:cs typeface="Simplified Arabic"/>
              </a:rPr>
              <a:t>الموقف ........ متغير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8200" indent="-250560" algn="just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ar-IQ" sz="2700" spc="-1" strike="noStrike">
                <a:solidFill>
                  <a:srgbClr val="c00000"/>
                </a:solidFill>
                <a:latin typeface="Simplified Arabic"/>
                <a:cs typeface="Simplified Arabic"/>
              </a:rPr>
              <a:t>الانفعال .....  المعنى  العام .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2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Up Arrow 4"/>
          <p:cNvSpPr/>
          <p:nvPr/>
        </p:nvSpPr>
        <p:spPr>
          <a:xfrm>
            <a:off x="2123640" y="2277000"/>
            <a:ext cx="359640" cy="2448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3387600"/>
          </a:xfrm>
          <a:prstGeom prst="rect">
            <a:avLst/>
          </a:prstGeom>
          <a:gradFill rotWithShape="0">
            <a:gsLst>
              <a:gs pos="0">
                <a:srgbClr val="ffab9b"/>
              </a:gs>
              <a:gs pos="100000">
                <a:srgbClr val="ffd7d0"/>
              </a:gs>
            </a:gsLst>
            <a:lin ang="16200000"/>
          </a:gradFill>
          <a:ln w="9360">
            <a:solidFill>
              <a:srgbClr val="eb641b"/>
            </a:solidFill>
            <a:round/>
          </a:ln>
          <a:effectLst>
            <a:outerShdw dist="38160" dir="5400000" blurRad="507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624240" indent="-5144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</a:pPr>
            <a:r>
              <a:rPr b="0" lang="ar-IQ" sz="2700" spc="-1" strike="noStrike">
                <a:solidFill>
                  <a:schemeClr val="dk1"/>
                </a:solidFill>
                <a:latin typeface="Lucida Sans Unicode"/>
              </a:rPr>
              <a:t>المعلومات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-5144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</a:pPr>
            <a:r>
              <a:rPr b="0" lang="ar-IQ" sz="2700" spc="-1" strike="noStrike">
                <a:solidFill>
                  <a:schemeClr val="dk1"/>
                </a:solidFill>
                <a:latin typeface="Lucida Sans Unicode"/>
              </a:rPr>
              <a:t>الرضا عن العمل                الدافعي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-5144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</a:pPr>
            <a:r>
              <a:rPr b="0" lang="ar-IQ" sz="2700" spc="-1" strike="noStrike">
                <a:solidFill>
                  <a:schemeClr val="dk1"/>
                </a:solidFill>
                <a:latin typeface="Lucida Sans Unicode"/>
              </a:rPr>
              <a:t>مهارات الاتصال والتواصل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-5144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</a:pPr>
            <a:r>
              <a:rPr b="0" lang="ar-IQ" sz="2700" spc="-1" strike="noStrike">
                <a:solidFill>
                  <a:schemeClr val="dk1"/>
                </a:solidFill>
                <a:latin typeface="Lucida Sans Unicode"/>
              </a:rPr>
              <a:t>حل المشكلات                   الإدارة الابداع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-5144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</a:pPr>
            <a:r>
              <a:rPr b="0" lang="ar-IQ" sz="2700" spc="-1" strike="noStrike">
                <a:solidFill>
                  <a:schemeClr val="dk1"/>
                </a:solidFill>
                <a:latin typeface="Lucida Sans Unicode"/>
              </a:rPr>
              <a:t>التوازن الانفعالي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التدريسي الناجح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102" name="Straight Connector 4"/>
          <p:cNvCxnSpPr/>
          <p:nvPr/>
        </p:nvCxnSpPr>
        <p:spPr>
          <a:xfrm flipH="1">
            <a:off x="5857560" y="1357200"/>
            <a:ext cx="2858040" cy="36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  <p:sp>
        <p:nvSpPr>
          <p:cNvPr id="103" name="Right Arrow 5"/>
          <p:cNvSpPr/>
          <p:nvPr/>
        </p:nvSpPr>
        <p:spPr>
          <a:xfrm rot="10800000">
            <a:off x="4788360" y="3069360"/>
            <a:ext cx="1338120" cy="143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04" name="Left Arrow 7"/>
          <p:cNvSpPr/>
          <p:nvPr/>
        </p:nvSpPr>
        <p:spPr>
          <a:xfrm>
            <a:off x="4961880" y="2133000"/>
            <a:ext cx="978120" cy="2156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ar-IQ" sz="2700" spc="-1" strike="noStrike">
                <a:solidFill>
                  <a:srgbClr val="000000"/>
                </a:solidFill>
                <a:latin typeface="Lucida Sans Unicode"/>
              </a:rPr>
              <a:t>قدرة الفرد السوي التحكم والسيطرة في انفعالاته المختلفة والمرونة للتعامل مع المواقف والاحداث اذ تكون استجابته مناسبة و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( مقبولة 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ar-IQ" sz="2700" spc="-1" strike="noStrike">
                <a:solidFill>
                  <a:srgbClr val="000000"/>
                </a:solidFill>
                <a:latin typeface="Lucida Sans Unicode"/>
              </a:rPr>
              <a:t>التعامل مع المواقف المختلفة بالعقلانية والثبات والواقعية المستمدة من الثقة بالنفس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just" rtl="1">
              <a:lnSpc>
                <a:spcPct val="100000"/>
              </a:lnSpc>
              <a:buNone/>
            </a:pP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تعريف التوازن الانفعالي :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في القرآن الكريم (مجاهدة النفس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عملية تعديل السلوك ...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وفي حديث للرسول محمد عليه افضل الصلاة يقول :(ليس الشديد بالصُّرَعة، إنما الشديد الذي يملك نفسه عند الغضب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الاتزان الانفعالي 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323600"/>
          </a:xfrm>
          <a:prstGeom prst="rect">
            <a:avLst/>
          </a:prstGeom>
          <a:solidFill>
            <a:srgbClr val="def5f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ar-IQ" sz="3600" spc="-1" strike="noStrike">
                <a:solidFill>
                  <a:srgbClr val="000000"/>
                </a:solidFill>
                <a:latin typeface="Lucida Sans Unicode"/>
              </a:rPr>
              <a:t>قدرة الفرد التحكم في الانفعالات 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((   كظم الغيظ )) تؤدي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صحة النفسية ( التوافق ، التكامل ، و الاستقرار والثبات النفسي 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إدارة الازمات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( الشعور بالرضا والسعادة  )) نوع من الاشباع للحاجات 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9000"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الانسان عبارة عن مجموعة من الانفعالات</a:t>
            </a:r>
            <a:br>
              <a:rPr sz="4100"/>
            </a:b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(( السعادة ، الحزن ، الكره ، الغضب ، الحب ،  ......))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111" name="Straight Connector 4"/>
          <p:cNvCxnSpPr/>
          <p:nvPr/>
        </p:nvCxnSpPr>
        <p:spPr>
          <a:xfrm flipH="1" flipV="1">
            <a:off x="2051640" y="4869000"/>
            <a:ext cx="6193080" cy="72360"/>
          </a:xfrm>
          <a:prstGeom prst="straightConnector1">
            <a:avLst/>
          </a:prstGeom>
          <a:ln>
            <a:solidFill>
              <a:srgbClr val="7d3c4a"/>
            </a:solidFill>
            <a:round/>
          </a:ln>
        </p:spPr>
      </p:cxn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حاجة لتحقيق الذات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التقدير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الاجتماع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الامان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حاجات الاساس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هرم ماسلو للحاجات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Isosceles Triangle 3"/>
          <p:cNvSpPr/>
          <p:nvPr/>
        </p:nvSpPr>
        <p:spPr>
          <a:xfrm>
            <a:off x="2051640" y="1700640"/>
            <a:ext cx="4176000" cy="3888000"/>
          </a:xfrm>
          <a:prstGeom prst="triangle">
            <a:avLst>
              <a:gd name="adj" fmla="val 46305"/>
            </a:avLst>
          </a:prstGeom>
          <a:solidFill>
            <a:schemeClr val="bg1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r>
              <a:rPr b="0" lang="ar-IQ" sz="1800" spc="-1" strike="noStrike">
                <a:solidFill>
                  <a:schemeClr val="lt1"/>
                </a:solidFill>
                <a:latin typeface="Lucida Sans Unicode"/>
              </a:rPr>
              <a:t>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Straight Connector 5"/>
          <p:cNvCxnSpPr/>
          <p:nvPr/>
        </p:nvCxnSpPr>
        <p:spPr>
          <a:xfrm flipH="1" flipV="1">
            <a:off x="2411640" y="4797000"/>
            <a:ext cx="3384720" cy="7236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  <p:cxnSp>
        <p:nvCxnSpPr>
          <p:cNvPr id="116" name="Straight Connector 12"/>
          <p:cNvCxnSpPr/>
          <p:nvPr/>
        </p:nvCxnSpPr>
        <p:spPr>
          <a:xfrm flipH="1">
            <a:off x="2843640" y="4077000"/>
            <a:ext cx="2520720" cy="36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  <p:cxnSp>
        <p:nvCxnSpPr>
          <p:cNvPr id="117" name="Straight Connector 14"/>
          <p:cNvCxnSpPr/>
          <p:nvPr/>
        </p:nvCxnSpPr>
        <p:spPr>
          <a:xfrm flipH="1">
            <a:off x="3131640" y="3429000"/>
            <a:ext cx="1800720" cy="36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  <p:cxnSp>
        <p:nvCxnSpPr>
          <p:cNvPr id="118" name="Straight Connector 15"/>
          <p:cNvCxnSpPr/>
          <p:nvPr/>
        </p:nvCxnSpPr>
        <p:spPr>
          <a:xfrm flipH="1">
            <a:off x="3491640" y="2780640"/>
            <a:ext cx="1152720" cy="36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  <p:sp>
        <p:nvSpPr>
          <p:cNvPr id="119" name="Right Arrow 21"/>
          <p:cNvSpPr/>
          <p:nvPr/>
        </p:nvSpPr>
        <p:spPr>
          <a:xfrm rot="16200000">
            <a:off x="6645240" y="3691080"/>
            <a:ext cx="244800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موقف في الحياة اليومية  ............... اثار غضبك كيف تتصرف ؟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5000"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كيف تتحكم وتسيطر على الانفعالات ؟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تقبل  أي القبول بالواقع والاقرار به ..... وهذا لا يعني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الرضا  </a:t>
            </a: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والاعتراف بالخطأ ..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الاتصال والتواصل مع الموضوع  ....... وصولا الى إيجاد الحلول المقبولة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( ينتج التعامل الصحيح مع الحدث )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الجواب 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  <Words>548</Words>
  <Paragraphs>127</Paragraphs>
  <Company>Salah Aldee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9T08:55:56Z</dcterms:created>
  <dc:creator>user</dc:creator>
  <dc:description/>
  <dc:language>en-US</dc:language>
  <cp:lastModifiedBy>safa</cp:lastModifiedBy>
  <dcterms:modified xsi:type="dcterms:W3CDTF">2019-06-27T06:31:57Z</dcterms:modified>
  <cp:revision>98</cp:revision>
  <dc:subject/>
  <dc:title>التوازن الانفعال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9</vt:r8>
  </property>
</Properties>
</file>