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095-B49B-4D12-8ED9-A5A6A8A7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9D7-5690-4CA2-A526-4ED9E4B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32D-6F13-4A14-BFBE-8005C7A7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3E3-A5AB-40E7-8E24-F6F1408E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765-127E-4CE6-B105-70122011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F5CB-6E28-4C05-B901-E43331A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4BAD-38BB-410F-B319-38E3130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59A-D41E-4C54-9756-0649F87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E3C8-3D64-4C36-A6C4-6AE49F5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FF0F-5C4B-4B13-AC6D-9BBD0374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A1C5-ECDA-477D-ADAC-8CBD8B1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BEA-BE3E-45F3-9031-968F3E0A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B193-BA3C-4543-AC41-956BA2B1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83D0-89B5-43E2-8A7A-BCDDC3A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815A-B71C-4724-9AE0-53DC4870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340-790C-4F22-AED6-7C73AF5E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13E-1F0A-4E5F-A4AA-31991C67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46B-65EB-4E65-AA8F-84A77D6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B11-7C4C-4893-92DA-AF109BF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116-4137-47AB-8C29-6A95812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191-DD87-4610-804A-6E17A223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6E5-E83E-43A4-B3E2-0ED3668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E3C-8BAD-4913-999B-68BE68A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726-4C5A-43CF-B12A-6290ADCE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BB62E99-490F-452C-9D1C-57C80742FC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7A2B4C5-4509-4EAB-A0D7-7B3A5B720B9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8186400" cy="26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العادات الايجابية السبعة للشخصية الفاعلة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786280"/>
            <a:ext cx="385452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 rtl="1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2060"/>
                </a:solidFill>
                <a:latin typeface="Calibri"/>
              </a:rPr>
              <a:t>د. اركان سع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خذ زمام المباد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6400440" cy="34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6" name="Picture 3" descr="C:\Users\lenovo\Desktop\volunteer_3d_people.png"/>
          <p:cNvPicPr/>
          <p:nvPr/>
        </p:nvPicPr>
        <p:blipFill>
          <a:blip r:embed="rId1"/>
          <a:stretch/>
        </p:blipFill>
        <p:spPr>
          <a:xfrm>
            <a:off x="762120" y="1643040"/>
            <a:ext cx="761796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لتحديد العقلي للهد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Users\lenovo\Desktop\AAEAAQAAAAAAAAMqAAAAJDIwZjYwODk2LWRlODItNGU5NS05MGU0LTJhNjUwNTYwZDk5YQ.jpg"/>
          <p:cNvPicPr/>
          <p:nvPr/>
        </p:nvPicPr>
        <p:blipFill>
          <a:blip r:embed="rId1"/>
          <a:stretch/>
        </p:blipFill>
        <p:spPr>
          <a:xfrm>
            <a:off x="857160" y="135720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IQ" sz="4400" spc="-1" strike="noStrike">
                <a:solidFill>
                  <a:srgbClr val="ff0000"/>
                </a:solidFill>
                <a:latin typeface="Calibri"/>
              </a:rPr>
              <a:t>أ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تقان ترتيب الاولوي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lenovo\Desktop\0فقه-الأولويات.jpg"/>
          <p:cNvPicPr/>
          <p:nvPr/>
        </p:nvPicPr>
        <p:blipFill>
          <a:blip r:embed="rId1"/>
          <a:stretch/>
        </p:blipFill>
        <p:spPr>
          <a:xfrm>
            <a:off x="1000080" y="1600200"/>
            <a:ext cx="7214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ربح ويربح ا</a:t>
            </a:r>
            <a:r>
              <a:rPr b="1" lang="ar-IQ" sz="4400" spc="-1" strike="noStrike">
                <a:solidFill>
                  <a:srgbClr val="ff0000"/>
                </a:solidFill>
                <a:latin typeface="Calibri"/>
              </a:rPr>
              <a:t>لأ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خرو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lenovo\Desktop\how-to-be-loved-17032015-001.jpg"/>
          <p:cNvPicPr/>
          <p:nvPr/>
        </p:nvPicPr>
        <p:blipFill>
          <a:blip r:embed="rId1"/>
          <a:stretch/>
        </p:blipFill>
        <p:spPr>
          <a:xfrm>
            <a:off x="857160" y="1785960"/>
            <a:ext cx="75006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فهم ال</a:t>
            </a:r>
            <a:r>
              <a:rPr b="1" lang="ar-IQ" sz="4400" spc="-1" strike="noStrike">
                <a:solidFill>
                  <a:srgbClr val="ff0000"/>
                </a:solidFill>
                <a:latin typeface="Calibri"/>
              </a:rPr>
              <a:t>أ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خرين ثم دعهم يفهمون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lenovo\Desktop\710.jpg"/>
          <p:cNvPicPr/>
          <p:nvPr/>
        </p:nvPicPr>
        <p:blipFill>
          <a:blip r:embed="rId1"/>
          <a:stretch/>
        </p:blipFill>
        <p:spPr>
          <a:xfrm>
            <a:off x="857160" y="1643040"/>
            <a:ext cx="7429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لتعاون الجم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lenovo\Desktop\sub_page70_picture0.jpg"/>
          <p:cNvPicPr/>
          <p:nvPr/>
        </p:nvPicPr>
        <p:blipFill>
          <a:blip r:embed="rId1"/>
          <a:stretch/>
        </p:blipFill>
        <p:spPr>
          <a:xfrm>
            <a:off x="571320" y="1571760"/>
            <a:ext cx="8000640" cy="47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لصيانة الدو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lenovo\Desktop\predictive-maintenance-1.jpg"/>
          <p:cNvPicPr/>
          <p:nvPr/>
        </p:nvPicPr>
        <p:blipFill>
          <a:blip r:embed="rId1"/>
          <a:stretch/>
        </p:blipFill>
        <p:spPr>
          <a:xfrm>
            <a:off x="1071360" y="1428840"/>
            <a:ext cx="65005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سمة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سمة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  <Words>42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9:15:13Z</dcterms:created>
  <dc:creator>lenovo</dc:creator>
  <dc:description/>
  <dc:language>en-US</dc:language>
  <cp:lastModifiedBy>Maher</cp:lastModifiedBy>
  <dcterms:modified xsi:type="dcterms:W3CDTF">2019-06-08T21:35:44Z</dcterms:modified>
  <cp:revision>28</cp:revision>
  <dc:subject/>
  <dc:title>اخذ زمام المبادر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8</vt:r8>
  </property>
</Properties>
</file>