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49A-685A-417F-AA1E-1F8B405E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469-0BD9-4979-A552-DE35A41E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7D6-F6EE-491E-9032-888554AD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EAB-31AC-457E-BD04-BBA7AB37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CA8A-1C18-4CA4-9621-76EC21A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C5B-7D2F-4B23-8A2F-243B398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38E6-B91C-45CB-B965-996C4D10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AF36-4333-494E-B754-54674DC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1DA6-1CD2-4D9F-8C8E-9EF10F17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6D4B-5398-46E5-BE96-F7DD13B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7879-024B-458E-B366-342665D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C4E-3107-4227-A390-5770E9A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1CEE-EC0B-46B6-A957-47E26B9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5002-DD3C-4777-A9B6-93C1F82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1F54-8FD3-42C4-8782-FD387FF6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B797-BD8C-4B57-B77C-FECE8FD0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F31D-6A50-4F8B-B775-5436BFB7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88F-82CA-454A-801E-726C990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E16-5153-490B-9950-D706DE0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64B-EB41-4D8B-AA3C-A48E889A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E20-1144-4832-A650-01D75F7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B92-C60C-4B2F-A595-2FA775E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765-8E85-46E6-BF83-8AE324B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8EB-8FD0-4690-8A51-86291A6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7F3B031-AE9B-43CB-A30A-18F0A42FB4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0CBEEE1-7FFF-4E47-AF1E-D6528B9A606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8186400" cy="26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عادات الايجابية السبعة للشخصية الفاعلة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786280"/>
            <a:ext cx="385452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 rtl="1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2060"/>
                </a:solidFill>
                <a:latin typeface="Calibri"/>
              </a:rPr>
              <a:t>د. اركان سع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خذ زمام المباد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6400440" cy="34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6" name="Picture 3" descr="C:\Users\lenovo\Desktop\volunteer_3d_people.png"/>
          <p:cNvPicPr/>
          <p:nvPr/>
        </p:nvPicPr>
        <p:blipFill>
          <a:blip r:embed="rId1"/>
          <a:stretch/>
        </p:blipFill>
        <p:spPr>
          <a:xfrm>
            <a:off x="762120" y="1643040"/>
            <a:ext cx="761796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تحديد العقلي للهد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Users\lenovo\Desktop\AAEAAQAAAAAAAAMqAAAAJDIwZjYwODk2LWRlODItNGU5NS05MGU0LTJhNjUwNTYwZDk5YQ.jpg"/>
          <p:cNvPicPr/>
          <p:nvPr/>
        </p:nvPicPr>
        <p:blipFill>
          <a:blip r:embed="rId1"/>
          <a:stretch/>
        </p:blipFill>
        <p:spPr>
          <a:xfrm>
            <a:off x="857160" y="135720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قان ترتيب الاولو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lenovo\Desktop\0فقه-الأولويات.jpg"/>
          <p:cNvPicPr/>
          <p:nvPr/>
        </p:nvPicPr>
        <p:blipFill>
          <a:blip r:embed="rId1"/>
          <a:stretch/>
        </p:blipFill>
        <p:spPr>
          <a:xfrm>
            <a:off x="1000080" y="1600200"/>
            <a:ext cx="7214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ربح ويربح ا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ل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ر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lenovo\Desktop\how-to-be-loved-17032015-001.jpg"/>
          <p:cNvPicPr/>
          <p:nvPr/>
        </p:nvPicPr>
        <p:blipFill>
          <a:blip r:embed="rId1"/>
          <a:stretch/>
        </p:blipFill>
        <p:spPr>
          <a:xfrm>
            <a:off x="857160" y="1785960"/>
            <a:ext cx="75006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فهم ال</a:t>
            </a:r>
            <a:r>
              <a:rPr b="1" lang="ar-IQ" sz="4400" spc="-1" strike="noStrike">
                <a:solidFill>
                  <a:srgbClr val="ff0000"/>
                </a:solidFill>
                <a:latin typeface="Calibri"/>
              </a:rPr>
              <a:t>أ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رين ثم دعهم يفهمون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lenovo\Desktop\710.jpg"/>
          <p:cNvPicPr/>
          <p:nvPr/>
        </p:nvPicPr>
        <p:blipFill>
          <a:blip r:embed="rId1"/>
          <a:stretch/>
        </p:blipFill>
        <p:spPr>
          <a:xfrm>
            <a:off x="857160" y="1643040"/>
            <a:ext cx="7429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تعاون الج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lenovo\Desktop\sub_page70_picture0.jpg"/>
          <p:cNvPicPr/>
          <p:nvPr/>
        </p:nvPicPr>
        <p:blipFill>
          <a:blip r:embed="rId1"/>
          <a:stretch/>
        </p:blipFill>
        <p:spPr>
          <a:xfrm>
            <a:off x="571320" y="1571760"/>
            <a:ext cx="8000640" cy="47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 الصيانة الدو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lenovo\Desktop\predictive-maintenance-1.jpg"/>
          <p:cNvPicPr/>
          <p:nvPr/>
        </p:nvPicPr>
        <p:blipFill>
          <a:blip r:embed="rId1"/>
          <a:stretch/>
        </p:blipFill>
        <p:spPr>
          <a:xfrm>
            <a:off x="1071360" y="1428840"/>
            <a:ext cx="6500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سمة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سمة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  <Words>42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9:15:13Z</dcterms:created>
  <dc:creator>lenovo</dc:creator>
  <dc:description/>
  <dc:language>en-US</dc:language>
  <cp:lastModifiedBy>Maher</cp:lastModifiedBy>
  <dcterms:modified xsi:type="dcterms:W3CDTF">2019-06-08T21:35:44Z</dcterms:modified>
  <cp:revision>28</cp:revision>
  <dc:subject/>
  <dc:title>اخذ زمام المبادر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8</vt:r8>
  </property>
</Properties>
</file>