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88638" cy="7562850"/>
  <p:notesSz cx="6888163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670-6852-4829-BEF0-682C9EA8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A8A-B1BE-46EF-9D0C-A6179E7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AD5-6564-47DE-855F-B6B5F570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164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6888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476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164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6888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B12-17B0-475A-9089-F0018029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A2AC-6F70-4C17-86C4-75C96C29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AC54-C27E-441D-BA4D-6F56E55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020A-3956-492B-8BA4-C0498844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B9F8-63F7-4066-AE2D-E3C29B10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F9D-9F5B-4FF4-A296-3EA38CC8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4760" y="402480"/>
            <a:ext cx="921852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7BD2-09DB-40F3-9B92-80DF7A2A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C5F-D94D-48B7-B049-D11372EC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E81-84B2-4278-A117-54FEDDD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943-C13F-467A-82F0-C18560A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C5C-0559-4431-91C1-F8D4753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CC40-D6A3-4ED5-BB1C-8ABAD5F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591-FD79-4FFC-99B7-9EB95BB3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164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68880" y="201312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476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164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68880" y="4519440"/>
            <a:ext cx="29682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3BF-E723-4928-992B-9D1A43BD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F83-F5E5-4093-BAEE-F9BC5CA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EA9-DC98-489D-AA68-01D9729B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992-058D-499C-8761-54B08F19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4760" y="402480"/>
            <a:ext cx="921852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9C2-7C16-4FB1-B0E7-F49ABF3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071-348F-486B-B469-D80A0D4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47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8680" y="451944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8A7-2A67-4AAA-B0B3-8186695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476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8680" y="2013120"/>
            <a:ext cx="4498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4760" y="4519440"/>
            <a:ext cx="921852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626-80A2-4E8A-98B8-3F68CC9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5960" y="1237680"/>
            <a:ext cx="8016120" cy="263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476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0600" y="7009560"/>
            <a:ext cx="360720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4884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917F13A-9BD5-4EED-9A14-AC1DE305EBCE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4240" y="1769400"/>
            <a:ext cx="961920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4760" y="402480"/>
            <a:ext cx="921852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4760" y="2013120"/>
            <a:ext cx="9218520" cy="47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3476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40600" y="7009560"/>
            <a:ext cx="360720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48840" y="7009560"/>
            <a:ext cx="24044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8F3C30-DDDA-46A8-81BA-3BA26DB416AC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Google Shape;84;p13"/>
          <p:cNvSpPr/>
          <p:nvPr/>
        </p:nvSpPr>
        <p:spPr>
          <a:xfrm>
            <a:off x="2677320" y="3130560"/>
            <a:ext cx="5409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r" rtl="1">
              <a:lnSpc>
                <a:spcPct val="100000"/>
              </a:lnSpc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رشاد والتوجيـه النفس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Google Shape;85;p13"/>
          <p:cNvSpPr/>
          <p:nvPr/>
        </p:nvSpPr>
        <p:spPr>
          <a:xfrm>
            <a:off x="5801400" y="5824440"/>
            <a:ext cx="3996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</a:pPr>
            <a:r>
              <a:rPr b="0" lang="ar-IQ" sz="3200" spc="-1" strike="noStrike">
                <a:solidFill>
                  <a:srgbClr val="000000"/>
                </a:solidFill>
                <a:latin typeface="Arial"/>
                <a:cs typeface="Arial"/>
              </a:rPr>
              <a:t>إعداد الدكتورة سميرة البدر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619920" y="581040"/>
            <a:ext cx="944856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ar-IQ" sz="48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توجيه وخصائصة ، تعريف الارشاد وخصائصه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. العراقة بين التويجـه والارشاد النفسي 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 الحاجـة إلى التوجيـه والارشا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19920" y="58104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7640" y="1038240"/>
            <a:ext cx="899136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6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س التوجيـه والارشاد 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دينيـة  </a:t>
            </a:r>
            <a:br>
              <a:rPr sz="6000"/>
            </a:br>
            <a:br>
              <a:rPr sz="4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نفسيـة </a:t>
            </a:r>
            <a:br>
              <a:rPr sz="6000"/>
            </a:br>
            <a:br>
              <a:rPr sz="48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الاسس الإجتماعيـة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19920" y="60336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39040" y="352440"/>
            <a:ext cx="982944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داف التوجيـه والارشاد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قيق الصحـة النفسـية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قيق التواف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لعجلـة التقليديـة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19920" y="581040"/>
            <a:ext cx="9448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5000" y="1038240"/>
            <a:ext cx="99057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مناهج الارشاد والتوجيـ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نمائ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وقائ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1" lang="ar-IQ" sz="4000" spc="-1" strike="noStrike">
                <a:solidFill>
                  <a:srgbClr val="000000"/>
                </a:solidFill>
                <a:latin typeface="Arial"/>
                <a:cs typeface="Arial"/>
              </a:rPr>
              <a:t>المنهج العلاج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  <Words>35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faa</dc:creator>
  <dc:description/>
  <dc:language>en-US</dc:language>
  <cp:lastModifiedBy>safa</cp:lastModifiedBy>
  <cp:lastPrinted>2019-03-28T06:26:12Z</cp:lastPrinted>
  <dcterms:modified xsi:type="dcterms:W3CDTF">2019-06-26T10:04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Custom</vt:lpwstr>
  </property>
  <property fmtid="{D5CDD505-2E9C-101B-9397-08002B2CF9AE}" pid="4" name="Slides">
    <vt:r8>5</vt:r8>
  </property>
</Properties>
</file>