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688638" cy="7562850"/>
  <p:notesSz cx="6888163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16F5-9FEE-4DDC-AEA1-E689798D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4760" y="2013120"/>
            <a:ext cx="921852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4760" y="4519440"/>
            <a:ext cx="921852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E061-0DA7-4EAD-9DF8-BD960655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4760" y="201312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8680" y="201312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4760" y="451944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8680" y="451944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7BBC-0315-47CB-9FB4-0AF91D28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4760" y="2013120"/>
            <a:ext cx="296820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51640" y="2013120"/>
            <a:ext cx="296820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68880" y="2013120"/>
            <a:ext cx="296820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4760" y="4519440"/>
            <a:ext cx="296820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51640" y="4519440"/>
            <a:ext cx="296820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68880" y="4519440"/>
            <a:ext cx="296820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4FA5-0050-4E1B-B85C-9BB5141D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6562-37DD-426E-A958-E6648978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4760" y="2013120"/>
            <a:ext cx="9218520" cy="47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72EE-BBDD-45A9-8135-CF380D07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4760" y="2013120"/>
            <a:ext cx="9218520" cy="47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F36B-7098-4C7D-A2F9-401A5F9E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4760" y="2013120"/>
            <a:ext cx="4498560" cy="47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58680" y="2013120"/>
            <a:ext cx="4498560" cy="47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5BDA-320F-42D1-ACBE-13F62DE6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7D8D-5545-4500-BE9F-40D355A9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34760" y="402480"/>
            <a:ext cx="9218520" cy="67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4533-740E-4844-AAFF-902BCCC8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4760" y="201312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58680" y="2013120"/>
            <a:ext cx="4498560" cy="47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34760" y="451944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0BA0-21A9-4700-9A71-A85B28FF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4760" y="2013120"/>
            <a:ext cx="9218520" cy="47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51A-09C3-4700-B562-FF66A160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4760" y="2013120"/>
            <a:ext cx="4498560" cy="47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58680" y="201312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58680" y="451944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313D-C6F7-43E9-887C-C5E372EC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4760" y="201312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8680" y="201312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34760" y="4519440"/>
            <a:ext cx="921852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B75F-91E0-4C46-AA81-843B8BB3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4760" y="2013120"/>
            <a:ext cx="921852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4760" y="4519440"/>
            <a:ext cx="921852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E6CF-0E6B-4E5D-8FD5-8686E53E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4760" y="201312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58680" y="201312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4760" y="451944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58680" y="451944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E2FF-8456-4628-8177-FE1A00C97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4760" y="2013120"/>
            <a:ext cx="296820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51640" y="2013120"/>
            <a:ext cx="296820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68880" y="2013120"/>
            <a:ext cx="296820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34760" y="4519440"/>
            <a:ext cx="296820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51640" y="4519440"/>
            <a:ext cx="296820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68880" y="4519440"/>
            <a:ext cx="296820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443E-04A2-4D58-A909-D8869EED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4760" y="2013120"/>
            <a:ext cx="9218520" cy="47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ED8E-4C38-4D40-B7F0-0FBEEDC0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4760" y="2013120"/>
            <a:ext cx="4498560" cy="47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8680" y="2013120"/>
            <a:ext cx="4498560" cy="47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AB6B-98CF-4D49-BAF3-54932C7F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FFEE-1B82-482A-9273-9A4F09DC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4760" y="402480"/>
            <a:ext cx="9218520" cy="67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6BA4-895A-45D3-9DA6-4F087680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4760" y="201312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8680" y="2013120"/>
            <a:ext cx="4498560" cy="47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4760" y="451944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F202-9BD6-4BE6-9651-CC6E1BE1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4760" y="2013120"/>
            <a:ext cx="4498560" cy="47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8680" y="201312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8680" y="451944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64BF-E69A-4A55-8332-479C20DD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4760" y="201312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8680" y="201312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4760" y="4519440"/>
            <a:ext cx="921852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12F-132A-41C0-B209-16E4A1CB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5960" y="1237680"/>
            <a:ext cx="8016120" cy="263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34760" y="7009560"/>
            <a:ext cx="2404440" cy="4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40600" y="7009560"/>
            <a:ext cx="3607200" cy="4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548840" y="7009560"/>
            <a:ext cx="2404440" cy="4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1E5264D-5D1A-4BAC-BC2A-EBC4A2CB39EC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34240" y="1769400"/>
            <a:ext cx="9619200" cy="43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34760" y="2013120"/>
            <a:ext cx="9218520" cy="47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34760" y="7009560"/>
            <a:ext cx="2404440" cy="4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40600" y="7009560"/>
            <a:ext cx="3607200" cy="4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548840" y="7009560"/>
            <a:ext cx="2404440" cy="4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F6C3BA9-0D4F-43B1-9621-E4832926EE9D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Google Shape;84;p13"/>
          <p:cNvSpPr/>
          <p:nvPr/>
        </p:nvSpPr>
        <p:spPr>
          <a:xfrm>
            <a:off x="2677320" y="3130560"/>
            <a:ext cx="54097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 algn="r" rtl="1">
              <a:lnSpc>
                <a:spcPct val="100000"/>
              </a:lnSpc>
            </a:pPr>
            <a:r>
              <a:rPr b="0" lang="ar-IQ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ارشاد والتوجيـه النفس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Google Shape;85;p13"/>
          <p:cNvSpPr/>
          <p:nvPr/>
        </p:nvSpPr>
        <p:spPr>
          <a:xfrm>
            <a:off x="5801400" y="5824440"/>
            <a:ext cx="3996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</a:pPr>
            <a:r>
              <a:rPr b="0" lang="ar-IQ" sz="3200" spc="-1" strike="noStrike">
                <a:solidFill>
                  <a:srgbClr val="000000"/>
                </a:solidFill>
                <a:latin typeface="Arial"/>
                <a:cs typeface="Arial"/>
              </a:rPr>
              <a:t>إعداد الدكتورة سميرة البدر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619920" y="581040"/>
            <a:ext cx="944856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ar-IQ" sz="4800" spc="-1" strike="noStrike">
                <a:solidFill>
                  <a:srgbClr val="000000"/>
                </a:solidFill>
                <a:latin typeface="Arial"/>
                <a:cs typeface="Arial"/>
              </a:rPr>
              <a:t>تعريف التوجيه وخصائصة ، تعريف الارشاد وخصائصه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. العراقة بين التويجـه والارشاد النفسي .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. الحاجـة إلى التوجيـه والارشاد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619920" y="581040"/>
            <a:ext cx="94485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67640" y="1038240"/>
            <a:ext cx="8991360" cy="64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ar-IQ" sz="6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سس التوجيـه والارشاد 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. الاسس الدينيـة  </a:t>
            </a:r>
            <a:br>
              <a:rPr sz="6000"/>
            </a:br>
            <a:br>
              <a:rPr sz="4000"/>
            </a:b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. الاسس النفسيـة </a:t>
            </a:r>
            <a:br>
              <a:rPr sz="6000"/>
            </a:br>
            <a:br>
              <a:rPr sz="4800"/>
            </a:b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. الاسس الإجتماعيـة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8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619920" y="603360"/>
            <a:ext cx="94485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39040" y="352440"/>
            <a:ext cx="9829440" cy="50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ar-IQ" sz="4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هداف التوجيـه والارشاد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ar-IQ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حقيق الصحـة النفسـية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ar-IQ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حقيق التوافق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ar-IQ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حسين العجلـة التقليديـة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619920" y="581040"/>
            <a:ext cx="94485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15000" y="1038240"/>
            <a:ext cx="990576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r>
              <a:rPr b="1" lang="ar-IQ" sz="4000" spc="-1" strike="noStrike">
                <a:solidFill>
                  <a:srgbClr val="000000"/>
                </a:solidFill>
                <a:latin typeface="Arial"/>
                <a:cs typeface="Arial"/>
              </a:rPr>
              <a:t>مناهج الارشاد والتوجيـ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r>
              <a:rPr b="1" lang="ar-IQ" sz="4000" spc="-1" strike="noStrike">
                <a:solidFill>
                  <a:srgbClr val="000000"/>
                </a:solidFill>
                <a:latin typeface="Arial"/>
                <a:cs typeface="Arial"/>
              </a:rPr>
              <a:t>المنهج النمائ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r>
              <a:rPr b="1" lang="ar-IQ" sz="4000" spc="-1" strike="noStrike">
                <a:solidFill>
                  <a:srgbClr val="000000"/>
                </a:solidFill>
                <a:latin typeface="Arial"/>
                <a:cs typeface="Arial"/>
              </a:rPr>
              <a:t>المنهج الوقائ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r>
              <a:rPr b="1" lang="ar-IQ" sz="4000" spc="-1" strike="noStrike">
                <a:solidFill>
                  <a:srgbClr val="000000"/>
                </a:solidFill>
                <a:latin typeface="Arial"/>
                <a:cs typeface="Arial"/>
              </a:rPr>
              <a:t>المنهج العلاج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  <Words>35</Words>
  <Paragraphs>1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faa</dc:creator>
  <dc:description/>
  <dc:language>en-US</dc:language>
  <cp:lastModifiedBy>safa</cp:lastModifiedBy>
  <cp:lastPrinted>2019-03-28T06:26:12Z</cp:lastPrinted>
  <dcterms:modified xsi:type="dcterms:W3CDTF">2019-06-26T10:04:0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Custom</vt:lpwstr>
  </property>
  <property fmtid="{D5CDD505-2E9C-101B-9397-08002B2CF9AE}" pid="4" name="Slides">
    <vt:r8>5</vt:r8>
  </property>
</Properties>
</file>